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0C7-B867-40C0-9B40-696D8AD9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AAF-B902-4846-9E41-79FE3AC0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FC0-3E6F-41CC-9EBF-5ABE7033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4CC-3743-41FA-BD23-F063E7C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F6-63F2-404D-9C9D-B44763E6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7A-CFB2-45FE-8FDE-C348D1EE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E32-7CBB-4382-8CCC-76FBA87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301-1BC0-41D1-B1DD-32A743A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871-DA19-4922-88B9-CBD9010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6E0-75DB-423E-8BBC-7CBEF99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65B-A974-4492-9AE7-7B7E49C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608-FFE4-4C37-AB74-F2438DD9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694F-2262-42CA-8E78-82F7B14A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aha-mesto.cz/" TargetMode="External"/><Relationship Id="rId2" Type="http://schemas.openxmlformats.org/officeDocument/2006/relationships/hyperlink" Target="http://www.praha-mesto.cz/" TargetMode="External"/><Relationship Id="rId3" Type="http://schemas.openxmlformats.org/officeDocument/2006/relationships/hyperlink" Target="http://www.praha-mesto.cz/" TargetMode="External"/><Relationship Id="rId4" Type="http://schemas.openxmlformats.org/officeDocument/2006/relationships/hyperlink" Target="http://www.praha-mesto.cz/" TargetMode="External"/><Relationship Id="rId5" Type="http://schemas.openxmlformats.org/officeDocument/2006/relationships/hyperlink" Target="http://www.praha-mesto.cz/" TargetMode="External"/><Relationship Id="rId6" Type="http://schemas.openxmlformats.org/officeDocument/2006/relationships/hyperlink" Target="http://www.praha-mesto.cz/" TargetMode="External"/><Relationship Id="rId7" Type="http://schemas.openxmlformats.org/officeDocument/2006/relationships/hyperlink" Target="http://www.praha-mesto.cz/" TargetMode="External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hyperlink" Target="http://www.chmi.cz/meteo/ok/extrklem.html" TargetMode="External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hyperlink" Target="http://www.jindrichpolak.wz.cz/encyklopedie/crnejkraje.php#praha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025800" cy="172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124000" y="1628280"/>
            <a:ext cx="194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2133720"/>
            <a:ext cx="28033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ozloha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96 km2 (14. mí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čet obyvatel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160 118 obyvatel (1. mí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ustota osídlení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 392 obyvatel/km2 (1. mí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rajské město (počet obyvatel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aha (1 160 118 obyva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ejvyšší bo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rch Teleček u Zličína (399 m n.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ejnižší bo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ladina Vltavy na severním okraji města v Suchdole (177 m n.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ficiální internetová adresa kraj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ah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sto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br>
              <a:rPr sz="2000"/>
            </a:b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08000" y="4365720"/>
            <a:ext cx="1819440" cy="178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788000" y="4653000"/>
            <a:ext cx="1861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2771640" cy="186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rodní podmín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 zabírá vltavské údolí a část Pražské plošiny (velké výškové rozdíly – dopravní problémy a problémy s čistotou ovzduší). Meteorologické pracoviště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lementin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hrana přírody: čtyři státní přírodní rezervace (Prokopské údolí, Radotínské údolí, Roztocký háj, Satalická bažantnice), dvě chráněné přírodní památky (Petřínské skály, Královská ob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340000" y="4241880"/>
            <a:ext cx="4648320" cy="2616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6000" y="3192480"/>
            <a:ext cx="3348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yvatel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ha měla k 30. 9. 2006 1 186 618 obyvatel (údaje ČS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ůli práci do ní dojíždí kolem 300 000 lidí, převážně ze Středočeského kr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Praze se zvyšuje podíl národnostních menšin. Současně probíhá další urbanizace a suburbanizace Pra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407664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4076640"/>
            <a:ext cx="42768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odář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růmyslu převládají obory se složitými technologickými proc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ojírenství – auta, lodě (ČKD, Av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ravinářství – pivovar Smíchov, čokoládovny Orion, mlékárny Lacrum a Z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rmaceutický – Zentiva, Sp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grafický – tisk novin a časopisů, výroba CD v Lodě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um služeb, finančnictví (ČNB, Czechinvest) a cestovního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860640"/>
            <a:ext cx="4427640" cy="1846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4643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mátky a zajíma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 je všeobecně uznávána jako jedno z nejkrásnějších měst v Evropě. Historické centrum města je památkovou rezervací UNES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 města Prahy patří k záhadám hlavního města – tradičně se odvozuje od slov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á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bo od sloves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ž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3716280"/>
            <a:ext cx="6076800" cy="2143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618480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zd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0 NEJ z Pra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ha je hlavní město ČR (a zároveň nejmenší kraj v Č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uje největší soustředění obyvatel (asi 1,2 mil.), úřadů (parlament, vláda, prezident, ČSÚ, ambasády atd.), průmyslu (strojírenský, potravinářský, polygrafický, farmaceutický) a služ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centrem cestovního ruchu, vědy a školství (Karlova Univerzita, ČVUT, AMU, ČSAV atd.) a kul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velkým dopravním uzlem (autobus – Florenc, letiště – Ruzyně, železnice – hl. nádraží Wilsonovo, Praha střed Masarykovo, Metro – stanice AB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 - za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jvětším přítokem na území Prahy je řeka………….. Praha leží v geomorfologické oblasti…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vlády, kterého z Lucemburků měla Praha největší význam…….. (jaké stavby byly v té době postaveny………….). Ovšem největšího kulturního rozvoje získala Praha za vlády…………..I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emu slouží významné pražské budovy: Karolinum, Klementinum, Rudolfinum, Belve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ké dálnice a rychlostní komunikace vybíhají z Pra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de se nachází přestupní stanice metra A-B……, B-C……, A-C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jvětším přítokem na území Prahy je řek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rounk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aha leží v geomorfologické oblas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ažská ploš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vlády, kterého z Lucemburků měla Praha největší význam: z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Karla IV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jaké stavby byly v té době postaveny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zasloužil se o stavbu sv. Víta, Karlův most, Hladovou zeď, Týnský chrá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d.). Ovšem největšího kulturního rozvoje získala Praha za vlády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udolfa II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emu slouží významné pražské budovy: Karolinum, Klementinum, Rudolfinu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dštejnský palác, Pražský hr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ké dálnice a rychlostní komunikace vybíhají z Prahy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1 – brněnská, D11 – hradecká, D8 – na Ústí, D5 – plzeňská, R4 – České Budějovice, R10 – Liberec, R6 – Karlovy V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de se nachází přestupní stanice metra A-B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ůste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B-C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loren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-C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uz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7:19:19Z</dcterms:created>
  <dc:creator>jj</dc:creator>
  <dc:description/>
  <dc:language>en-US</dc:language>
  <cp:lastModifiedBy>jj</cp:lastModifiedBy>
  <dcterms:modified xsi:type="dcterms:W3CDTF">2008-02-26T21:22:36Z</dcterms:modified>
  <cp:revision>10</cp:revision>
  <dc:subject/>
  <dc:title>PRAHA</dc:title>
</cp:coreProperties>
</file>